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B1817-E169-430E-9141-8532969A8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0C6A5-EB45-4FCE-9EC6-02878F9B6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B5DA9-B852-4644-9FDC-ED1AE685F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6FE49-20F5-4F6C-BD47-BA2A55648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31583-78A6-49D3-96EA-896AA672E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6DAAE-29BB-4317-9AFF-5074D2EF6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A3A10-3593-4769-B1C8-D4E247F97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48DD5-56FE-4878-A679-DA4BBBA93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6BA9C-0DFB-4BCB-9B70-30E77E1F0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6B98E-ACC0-4A2B-B2CA-19AFA9C55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CA388-384A-449F-8ACB-A254A1309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2074A-0293-43D4-AB0F-F38216A2B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933EA-5E54-4ACF-9946-CDDA40246605}" type="slidenum">
              <a:rPr b="0" lang="zh-TW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平安的七月夜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(1/3) </a:t>
            </a:r>
            <a:br>
              <a:rPr sz="4400"/>
            </a:b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[Peaceful July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3200" spc="-1" strike="noStrike">
              <a:solidFill>
                <a:srgbClr val="000000"/>
              </a:solidFill>
              <a:latin typeface="Arial"/>
              <a:ea typeface="新細明體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9280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  <a:ea typeface="全真粗黑體"/>
              </a:rPr>
              <a:t>甦醒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平安的七月夜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(2/3) </a:t>
            </a:r>
            <a:br>
              <a:rPr sz="4400"/>
            </a:b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[Peaceful July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3200" spc="-1" strike="noStrike">
              <a:solidFill>
                <a:srgbClr val="000000"/>
              </a:solidFill>
              <a:latin typeface="Arial"/>
              <a:ea typeface="新細明體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629280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  <a:ea typeface="全真粗黑體"/>
              </a:rPr>
              <a:t>甦醒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平安的七月夜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(3/3) </a:t>
            </a:r>
            <a:br>
              <a:rPr sz="4400"/>
            </a:b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[Peaceful July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3200" spc="-1" strike="noStrike">
              <a:solidFill>
                <a:srgbClr val="000000"/>
              </a:solidFill>
              <a:latin typeface="Arial"/>
              <a:ea typeface="新細明體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629280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  <a:ea typeface="全真粗黑體"/>
              </a:rPr>
              <a:t>甦醒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1:32:47Z</dcterms:created>
  <dc:creator> </dc:creator>
  <dc:description/>
  <dc:language>en-US</dc:language>
  <cp:lastModifiedBy> </cp:lastModifiedBy>
  <dcterms:modified xsi:type="dcterms:W3CDTF">2004-06-16T01:33:00Z</dcterms:modified>
  <cp:revision>1</cp:revision>
  <dc:subject/>
  <dc:title>平安的七月夜 (1/3)  [Peaceful July]</dc:title>
</cp:coreProperties>
</file>